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93002"/>
        <c:axId val="4442381"/>
      </c:barChart>
      <c:catAx>
        <c:axId val="31293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2381"/>
        <c:crosses val="autoZero"/>
        <c:auto val="1"/>
        <c:lblAlgn val="ctr"/>
        <c:lblOffset val="100"/>
        <c:noMultiLvlLbl val="0"/>
      </c:catAx>
      <c:valAx>
        <c:axId val="4442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93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78EF-9863-4B54-A7E1-78653598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CC0B-3AC1-4A35-9FE3-A5B88643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989-04E2-4F62-98E7-1518D519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5CC-61A8-4A3E-9D53-D451CD3B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93B-995C-41AB-8450-33A0CDD2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EECB-C014-45EB-B249-7E0CDDDB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2E99-F8EF-42E5-A2D3-902475BC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052-579E-4CC6-B4E6-DE19A7D1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32B-4BA9-4FE1-BA5B-D716FEDC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80D-F6FD-48D9-ADF9-BB0862C5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1711-0E5A-4652-872E-05EE86DE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604-CA74-451E-969E-DB919CC0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6362F-4A65-46B0-B78E-BF8B9F8BDA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