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11123"/>
        <c:axId val="21422905"/>
      </c:barChart>
      <c:catAx>
        <c:axId val="25811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22905"/>
        <c:crosses val="autoZero"/>
        <c:auto val="1"/>
        <c:lblAlgn val="ctr"/>
        <c:lblOffset val="100"/>
        <c:noMultiLvlLbl val="0"/>
      </c:catAx>
      <c:valAx>
        <c:axId val="21422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11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EA2-2025-4810-8788-2B80EEF2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E88-380F-45ED-B109-95DAA6A4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6FF-B8E1-4624-9A7B-06DC94EC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5A7-3F14-44E4-90E9-D1E363B0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BF9-BE31-4951-BC2F-6DA6209B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A5E-3F17-4D6A-B075-D10D3E8E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F4F-7A36-4743-8B33-88642C27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E9B-FB0A-417A-8519-A6370FD6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4E7-B88D-4564-9266-3F4C0CD7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B11-2492-46DE-9B87-22EDE84B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001-ACA8-46FA-9BEB-87829F35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DC3-149B-4430-A527-A4CA1BD8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A4254-3BB5-433B-9CFC-4987E27E84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